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CA5-FDC3-479C-82C4-70F4F22B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CD0-6B4F-409A-8382-09280EBC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692-68D4-4B43-9805-B1B5F048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427-FB78-4C9B-BF08-A10B5958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B66-FBD8-42B2-A607-7E2B0C10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6AE-007A-4171-947E-3A99E5BC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C0A9-F281-4308-BF8A-B1599BCF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3B2-13CD-4950-8DAB-7E8B4351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92E-0583-4C40-A479-2FCA2DCB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129-2393-4024-8765-6741DA4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ABED-D875-4E03-AE9F-94330F2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396-07F1-4B94-88A9-9CC504B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637D-89AF-4E69-B93B-73A182A8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uilding a messag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66B-79C3-4216-95DE-6E1E7143D4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unctional grammar and word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umerals added as a category: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one, two, three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I, you, he, etc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umed within nouns (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car, sheep, happiness, Pau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FD8C-1BD2-49BA-A8DF-8036CB0CCC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mon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ble, dog,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pe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rmingham, J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bstract 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auty,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, herself, who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ever, w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, this, that,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, 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E3D-39D1-4746-BB29-4E2CC2DD29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un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at strang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fe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i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ould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ective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ch happ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erb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now; ve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positional </a:t>
            </a: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phr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f tha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ng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e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A93-59DF-4B93-83DC-FFA752CB7A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stands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The shopper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pend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provides supportive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.g: when the fire alarm ra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296-9911-4B15-B870-A92F1A2C7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, P(V), O, C,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addition to grammatical categor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al categori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ubje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Predicate (verb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Ob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Arial"/>
              </a:rPr>
              <a:t>Compl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un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ADD-E3B1-4B35-BD4C-B3B6AC12C9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, Verb, Object, Complement, Adjun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 sentence consists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erhaps other elements following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ther elements are necessary to complete the structure of the sentence, they are called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mpl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cluding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objec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f they are optional extras, giving circumstantial detail, they are called adjun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ng, David J. (CB)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ing English Grammar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don, UK: Routledge, 1984. p 71. available: http://site.ebrary.com/lib/aston/Doc?id=10060832&amp;ppg=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1984.  Routledge. 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59E-28FD-4777-9E79-CE0CD1861D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B3F-D917-4D39-8F43-46DEF895C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440-BEF8-42F1-BD36-45FA31B951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o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before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wall-eyed nurse  came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 tried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2781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78936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2FB-CBB3-4A3D-9A05-F42AE7EDC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ten affects the form of the ver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 were  glad to let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637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263700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2100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019F-C3F5-45E5-B1EE-DB55DC9CB1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arts of Spee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 Cla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626-2296-4D54-ACFA-9827B1E332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494-B582-42B7-9D01-D88DD378FE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FF5-845A-45A5-A135-558BEE7E35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wers the questio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om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es after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ers to a different entity from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 Gordon  was unlocking  the clo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 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unclasped  my watc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357720"/>
            <a:ext cx="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5892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59280" y="494172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758-4637-45B5-BE11-B49592B9F4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dropped it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he started tweaking the hairpins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 dragged out 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lled it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urse started swabbing my temples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F066-8C95-4193-BC15-C2470650DB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Identify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Extrac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wall-eyed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came bac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op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her poc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twea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my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octor Gord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lock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00"/>
                </a:solidFill>
                <a:latin typeface="Arial"/>
              </a:rPr>
              <a:t>the clo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dragged ou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 table on wheels with a machine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roll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i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hind the head of the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nurs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tarted swabb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templ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ith a smelly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C47-85F5-4236-A38F-3AE4022A1F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uses with both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cting on or affecting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= ‘doer’ =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ject = ‘done-to’ =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Af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9B6-987E-41FD-BE31-9E2917B997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6AE-7288-4A8E-B251-0C601C80C1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: Who does what to whom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c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u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‘I’ [= narrator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oset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wat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able 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my watch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els with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airpi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chine on it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y te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[the table on …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8B5-4B0A-4C47-8323-03E63AEAC1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ERB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predicator) is the essential element in any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clauses also requir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clauses also have an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r + action + done-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F4D-F1EB-447E-86DF-F8D4457C0C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vs Passive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nclasp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my wat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weak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the hairp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y watc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 unclasp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S(P)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 hairpin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ere tweak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[from my hair]=S(P)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4D3-E481-4373-AFD6-E146D3835B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la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cc00"/>
                </a:solidFill>
                <a:latin typeface="Arial"/>
              </a:rPr>
              <a:t>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50021"/>
                </a:solidFill>
                <a:latin typeface="Arial"/>
              </a:rPr>
              <a:t>Morphe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F3A-B1F2-4920-B76C-2BEA7EF93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D6A-DE85-4650-8127-5F4D88BB1F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kind of clause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 all verbs represent actions done to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 was  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make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 was been  -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263700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53E7-EE58-42FE-8067-AEFE99B0FE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required by a small number of verb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51E-9A8E-4EEB-BB49-6971D1656F1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efers to the same entity a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s or evaluates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ool and 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only a few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lt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sick about saying goodbye like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‘equals sign tes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=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l and fresh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not be mad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 passive version of the cl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E91-8BB1-4944-9840-5EC8F2CDB05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ansitive cl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obligatory, the claus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ransitiv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bs can occur without either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they]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r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train … the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quarrell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ut her not being willing to come home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verbs may be used either transitively or intransitive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y’s tackl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ok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atson’s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ought my bones woul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AEE-F79E-4FF7-A81B-AE226F957D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027-E169-4615-9391-09583510BE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70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(P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9cc00"/>
                </a:solidFill>
                <a:latin typeface="Arial"/>
              </a:rPr>
              <a:t>O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80"/>
                </a:solidFill>
                <a:latin typeface="Arial"/>
              </a:rPr>
              <a:t>C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hot evening in Padua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rr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hi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 on to the ro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loo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ut over the top of the t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himney swif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s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a whil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go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searchligh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ame 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oth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too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 bott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e and 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uld hea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the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low on the balco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z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a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the 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a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cool and fres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ho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E6E-CB54-4F1A-8299-1C498F451B6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6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8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Rank Sc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(or clause co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, and then two men emerged from the path and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the place was lif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 and then) two men emerged from the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and) came into the opening by the green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116-B264-4D1C-A243-34DE175B0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P/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a mo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men emerge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pa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o the open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the green po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7C9-ADCF-4DA6-8E82-C6F55C4AD3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P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–les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erge -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2C6-DCAF-497A-A1D8-E02E3E6988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ilding a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LET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2DA-BEE2-4EE0-BE8B-C9BC690E6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Word Classes: lexical or full wor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jec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er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866-1D00-4E09-A277-2ADC93EEB3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rts of Speech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sed word classes: grammatical or empty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erminers or 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os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j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F55-D871-4756-B12B-C0457C7D9A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6T15:38:30Z</dcterms:created>
  <dc:creator>student</dc:creator>
  <dc:description/>
  <dc:language>en-US</dc:language>
  <cp:lastModifiedBy>fox</cp:lastModifiedBy>
  <dcterms:modified xsi:type="dcterms:W3CDTF">2009-02-12T10:56:25Z</dcterms:modified>
  <cp:revision>8</cp:revision>
  <dc:subject/>
  <dc:title>Parts of Speech and SPOCA</dc:title>
</cp:coreProperties>
</file>